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B01B-847D-49FF-82F0-5EE8F562B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049-B942-40F4-A232-EA8390C2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488-3EC2-4B6A-A405-A7062E85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DA5-E815-4ACD-8391-6546B39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7D1-2472-45BC-AD32-22A639E1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1D5-F1D9-4A31-8247-499FFD03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C3B-68DB-44EF-86D9-83B873C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7CD-CE83-456A-B915-72F8896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2E1-2FF0-4434-84E2-B60B9FD6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3D4-1A6E-454D-B46D-08E2D59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945-24EE-43C1-B57C-EBBEC16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610-004B-419D-AC3B-11C8EA83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A55-D370-4BCD-A340-1719CEB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62C-DFF6-4AC2-8C6E-7DD95C2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E6E-E139-4EEC-B64F-BD62F2C5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Mis herm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n alt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es mi linda, dulce ami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 Escribendo mi poema con mi herm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enemos que escribir una poema para escuela.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. ¿Cómo están y que hacen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. Yo estoy comendo. Y está bien.  Nosotros estamos felices  nuest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do.¿Tú tienes una hermana?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y qué bueno. Ustedes son muy inteligente.                                                        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tamen eres inteligente.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55Z</dcterms:modified>
  <cp:revision>112</cp:revision>
  <dc:subject/>
  <dc:title>Profile</dc:title>
</cp:coreProperties>
</file>